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949-7FA4-441F-8E62-12D40C6F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B57-1390-4FD5-8E8D-A4DD731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60E-95EE-4E7D-B025-1071C977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E9B-562C-4004-8456-2CF90B30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CF6-E8A3-479D-BFC9-A92B7629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732-B760-444F-9FB3-3227C25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6268-8127-4725-AF53-BB848B5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5F6D-B7C6-42E8-8F6D-93B3436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D79-28A9-469D-BC1B-FAE9DBA2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DC8-49D6-4918-8EC9-7F57EBB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0152-A624-4500-82A7-D826F00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047-5456-4B01-AAA7-CE6A89DF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B157-CE2E-4F59-AB96-970CDD4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4165-BBB5-46E0-9DF2-E5A68F97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AA0E-1F3D-441A-AAE6-87960421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AAAD-7F20-4B0C-893D-F34A5445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54B-C31C-46A2-B066-6A13E1AD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B25-3EAB-40FA-8540-4FF0576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D83-3930-4764-AC5C-23819E5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273-A715-4253-9CAF-6073B44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8AF-F4D8-4E8C-BC72-5F087D6E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A24-BD8A-48F5-BC4B-35D959E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7B1-D6C6-489E-9CFE-CA52BB12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CBC-1E5F-4458-9850-6BE1495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2E6-FD8F-4627-B6D0-D7DF4CB21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4D6-88AC-4F0E-8E5B-D8AF9102A2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Bible Quiz Scor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19320" y="2286000"/>
          <a:ext cx="7086600" cy="428148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6240"/>
                <a:gridCol w="1417680"/>
                <a:gridCol w="1417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Bible Quiz Scor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286000"/>
          <a:ext cx="7086600" cy="428148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6240"/>
                <a:gridCol w="1417680"/>
                <a:gridCol w="1417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00:20:56Z</dcterms:created>
  <dc:creator>John White</dc:creator>
  <dc:description/>
  <dc:language>en-US</dc:language>
  <cp:lastModifiedBy>John White</cp:lastModifiedBy>
  <dcterms:modified xsi:type="dcterms:W3CDTF">2014-03-25T22:51:23Z</dcterms:modified>
  <cp:revision>3</cp:revision>
  <dc:subject/>
  <dc:title>GCC Bible Quiz Scores</dc:title>
</cp:coreProperties>
</file>